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DCA7-E3D8-4950-9430-730852F5E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what countries current members of the International Club have vis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ECD-ADA9-40C5-B5D4-8F4C7898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D21-42B9-4672-A6E8-9AAD62CC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2B0-0BAC-47B2-95F7-E4CDC6EE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5E9-4091-4CB7-B563-6A98B947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9076-744A-48A8-B7D4-2B9ED5D8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B219-FEE9-4FD9-8657-B0D43D0D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BA92-CD90-4389-9CB3-23AEC521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C33C-AC65-445F-B833-D28DC0F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37F8-FFEC-48B2-B66D-ADF1B42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8392-B1F7-4418-B184-8F84F545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BF45-B9C7-45C8-905D-A25CEDC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060-3738-455D-8B9C-A70A0C3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8956-81D1-4232-9109-A05C0BB4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BA97-E3F7-4CC9-8CFA-35CBA485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BEBA-6F12-4BE2-97AB-C620EF91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3487-2821-44A6-AB5C-2DFB36FE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45A8-5894-49ED-A810-2AA097ED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622-71FF-47DD-BB94-988D68B1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9AA-8626-4D08-A7C3-53E5D8BD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AC3-2AB2-4B2B-9108-B0D5327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72D-14BE-4393-82D9-AEF29FA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223-387B-4167-B07D-68C388E6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656-565B-45CF-A321-2842E965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396-5A39-4F28-9AA2-E9ED081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38B7-17FF-4952-80AC-D2C0AA66831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086E-6E06-478F-B6A5-DE21082DB81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440" y="2031840"/>
            <a:ext cx="624852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come a Volunte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a team lea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st coordina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rict representa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8480" y="2666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come an Exchange Stud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609588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come a Host Fami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3581280"/>
            <a:ext cx="6973920" cy="26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re your home for a ye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are a friendship for a life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1600200"/>
            <a:ext cx="655344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untries you can visit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52120" y="304776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stral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ust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nma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rm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3048120"/>
            <a:ext cx="2720880" cy="33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re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a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w Zea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ot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witzerl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9320" y="1828800"/>
            <a:ext cx="525780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2819160"/>
            <a:ext cx="6723000" cy="36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udying abroad will enable you t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erience a different cul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fect a second langu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lifelong international frien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 strong interpersonal skil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 self-confid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5374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plore the opportunities today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440" y="3733920"/>
            <a:ext cx="4908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 for more inform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00-555-212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56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lobal Stud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ww.GlobalStudents.c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1T18:21:00Z</dcterms:created>
  <dc:creator>Connie Morrison</dc:creator>
  <dc:description/>
  <dc:language>en-US</dc:language>
  <cp:lastModifiedBy>Julie Hotchkiss</cp:lastModifiedBy>
  <dcterms:modified xsi:type="dcterms:W3CDTF">2004-09-24T15:25:17Z</dcterms:modified>
  <cp:revision>35</cp:revision>
  <dc:subject/>
  <dc:title>Participate in the  Global Student Exchange Program</dc:title>
</cp:coreProperties>
</file>